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FF8-273B-4FF9-95B2-7B23E9C3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914-D5E0-4672-924B-1EC8356D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A59-0264-4882-A78E-3E6DB899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B25-2E60-4915-B82C-94FD26C6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8BC-B655-4A17-98EA-EA38A47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658-F388-4D99-B6DF-F07C59CC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388-15DE-414A-83AE-C87DAA76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583-87B7-4F2F-A8AC-D90D1E32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A81-FDF5-406B-ABCF-21EA193C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EB0-8644-42CA-B9AA-EF368F7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0AD-8FC7-49E5-AF9C-39471B4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BB8-A6BD-48C3-9E5E-5EB87E6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5E13-6123-4CD1-BBE3-4A872FFFAE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2 THE 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εμισηκ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εκωλυμε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προφητευ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φιληκ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εβλεπ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πολελυμεν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143160" y="1839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143160" y="243036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iciple Masc. 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3143160" y="366876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3143160" y="42973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3143160" y="49021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3143160" y="552456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iciple Feminine Singular Accus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214280"/>
            <a:ext cx="49291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ουλοι ἀπολελυ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μαρτυρηκα τῃ ἀληθει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πεποιηκ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πειρασμαι πολλα ἐτ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προσκυνουμεν ἐν ἱερ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ᾠκοδμημενῳ ὑπο ἀν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οτετακται πονηρῳ 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199872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aves have been fr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557440"/>
            <a:ext cx="44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borne witness to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43280" y="309888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have you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43280" y="3613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been tempted fo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43280" y="418464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do not worship in a temple which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been built by m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uma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27220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been subjected to a wicked m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42920" y="1214280"/>
            <a:ext cx="4929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εσωμεθα δια της ἀγαπη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στρατιωται κεκρατηκασιν το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τ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ick woman has been h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rd has been sent (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μπ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into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done good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you have not believed in Jes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857840" y="137160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been saved through the love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57840" y="247968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ldiers have arrested P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4857840" y="3479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ἀσθενης τεθεραπευ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857840" y="400068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λογος πεπεμπται εἰς τον κοσμον (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κοσμ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or just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ῳ κοσμ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487188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ποιηκαμεν τα ἀγα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871880" y="586584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πεπιστευκας τῳ Ἰησ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2360" y="1479600"/>
            <a:ext cx="617688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ense is appropriate for the underlined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have lear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Gr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have lear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y vocab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e has been help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y the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y ha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he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y spok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those who had se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481800" y="2428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467400" y="30020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467400" y="361008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481800" y="4222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86480" y="4824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14200" y="1285920"/>
            <a:ext cx="4114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hich of the following would a pluperfect be u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he had arrived, they began to 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ribes said that the law had been bro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d believed but I do not any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I believed I was happ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thought that the temple had been destr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81440" y="2214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(Aorist particip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4680" y="31384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(Indirect statement using Perf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87920" y="4032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676760" y="49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(Aorist particip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687920" y="5514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(Indirect statement using Perf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9:58:07Z</dcterms:created>
  <dc:creator>Sarah</dc:creator>
  <dc:description/>
  <dc:language>en-US</dc:language>
  <cp:lastModifiedBy>Sarah</cp:lastModifiedBy>
  <dcterms:modified xsi:type="dcterms:W3CDTF">2009-08-09T11:15:15Z</dcterms:modified>
  <cp:revision>18</cp:revision>
  <dc:subject/>
  <dc:title>Slide 1</dc:title>
</cp:coreProperties>
</file>